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53882"/>
        <c:axId val="39570305"/>
      </c:barChart>
      <c:catAx>
        <c:axId val="16053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70305"/>
        <c:crosses val="autoZero"/>
        <c:auto val="1"/>
        <c:lblAlgn val="ctr"/>
        <c:lblOffset val="100"/>
        <c:noMultiLvlLbl val="0"/>
      </c:catAx>
      <c:valAx>
        <c:axId val="39570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53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7DB-FD71-42B7-AA86-0D6CD370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A24-DA9F-4809-BE39-9F70818C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074-66A9-49D2-B51E-0DC0ACF0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E91-92DA-4739-A7BE-52B77287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5CA-1E19-42A9-AB18-BDCC4716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C8F-CC88-46D0-9346-4CC8FF2A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4AC-A2C3-4CD4-A213-82CD8FCB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24C-C542-4E69-B082-75A29AA9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3B8-AEDD-47EB-B931-83265B3E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06B-CB5D-48D8-9C02-2564353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C29-7504-4BC1-BB16-EB300F14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6A4-8CA5-4DEC-B33D-D8F079FB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1BE4-C512-437E-8477-8A78F82B90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